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32FE-6A25-4AC8-AC5D-1CF23E308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B6FF-0066-4054-A6FC-E8C2C55AA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5236-7E43-4F9A-9B5F-EC55550EA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74EC-368D-4FCC-81CA-D3D448F5A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0E8F-A1E6-4DCE-A8B7-BA75BE8AB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5BCB-2199-41B8-9453-98FC19405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D108-6A29-413B-845A-905565768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D3AF-74FD-4B35-BC39-7A2E0F15D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E3CB-06A7-4018-AB13-63C4BB538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192B-0026-4E42-A536-C13D2D53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2A3F-3BDE-47F3-B5B5-B43FF9F8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1C9C-6B08-4EC4-AE38-BE8E9D0D6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F2B37-CC73-40B8-B212-A12ADE5AB1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olar_system" descr=""/>
          <p:cNvPicPr/>
          <p:nvPr/>
        </p:nvPicPr>
        <p:blipFill>
          <a:blip r:embed="rId1"/>
          <a:stretch/>
        </p:blipFill>
        <p:spPr>
          <a:xfrm>
            <a:off x="0" y="271440"/>
            <a:ext cx="9144000" cy="6315120"/>
          </a:xfrm>
          <a:prstGeom prst="rect">
            <a:avLst/>
          </a:prstGeom>
          <a:ln w="0">
            <a:noFill/>
          </a:ln>
        </p:spPr>
      </p:pic>
      <p:pic>
        <p:nvPicPr>
          <p:cNvPr id="42" name="aa-logo-" descr=""/>
          <p:cNvPicPr/>
          <p:nvPr/>
        </p:nvPicPr>
        <p:blipFill>
          <a:blip r:embed="rId2"/>
          <a:stretch/>
        </p:blipFill>
        <p:spPr>
          <a:xfrm>
            <a:off x="228600" y="5562720"/>
            <a:ext cx="1114560" cy="1035000"/>
          </a:xfrm>
          <a:prstGeom prst="rect">
            <a:avLst/>
          </a:prstGeom>
          <a:ln w="0">
            <a:noFill/>
          </a:ln>
        </p:spPr>
      </p:pic>
      <p:pic>
        <p:nvPicPr>
          <p:cNvPr id="43" name="shield" descr=""/>
          <p:cNvPicPr/>
          <p:nvPr/>
        </p:nvPicPr>
        <p:blipFill>
          <a:blip r:embed="rId3"/>
          <a:stretch/>
        </p:blipFill>
        <p:spPr>
          <a:xfrm>
            <a:off x="7862760" y="5257800"/>
            <a:ext cx="1073160" cy="1241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420920" y="2514600"/>
            <a:ext cx="6548040" cy="25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800" spc="-1" strike="noStrike">
                <a:solidFill>
                  <a:srgbClr val="ff0000"/>
                </a:solidFill>
                <a:latin typeface="Comic Sans MS"/>
              </a:rPr>
              <a:t>Solar System Physics 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Dr Martin Hend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6 lectures, beginning October 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82920" y="304920"/>
            <a:ext cx="5702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epartment of Physics and Astrono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Astronomy 1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ession 2003-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47240" y="152280"/>
            <a:ext cx="351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l structure of Jupi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187960" y="365040"/>
            <a:ext cx="3651120" cy="3494160"/>
          </a:xfrm>
          <a:prstGeom prst="ellipse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605560" y="830160"/>
            <a:ext cx="2814480" cy="26244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624720" y="1763640"/>
            <a:ext cx="717480" cy="6984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27600" y="1004760"/>
            <a:ext cx="719280" cy="4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922200" y="773280"/>
            <a:ext cx="1607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lecular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+  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9160" y="1996920"/>
            <a:ext cx="8971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tallic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+  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29160" y="2171880"/>
            <a:ext cx="1495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6084360" y="2228760"/>
            <a:ext cx="838440" cy="1749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38320" y="4054320"/>
            <a:ext cx="1474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Rock (Mg, Si, F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and liquid 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6983280" y="364680"/>
            <a:ext cx="0" cy="174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6440" y="1584360"/>
            <a:ext cx="34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706440" y="657360"/>
            <a:ext cx="34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.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44600" y="190440"/>
            <a:ext cx="34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490880" y="29520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70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369560" y="762120"/>
            <a:ext cx="6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000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163280" y="1704960"/>
            <a:ext cx="6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000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41720" y="900000"/>
            <a:ext cx="2782080" cy="12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0000"/>
                </a:solidFill>
                <a:uFillTx/>
                <a:latin typeface="Times New Roman"/>
              </a:rPr>
              <a:t>Upper atmosphere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90% H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0% 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0.2%  CH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, ammonia, w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46880" y="5057640"/>
            <a:ext cx="3216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tallic hydrogen gives Jupiter a strong magnetic fie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9000 times that of the Ear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1360" y="2343240"/>
            <a:ext cx="3749760" cy="43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Lower atmospher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 pressure, density ‘squeezes’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lecular bonds broken; electrons shared, as in a metal – ‘liquid metallic hydrogen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Cor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, ‘soup’ of rock and liquid ‘ices’ (water, methane ammonia) of about 15 Earth ma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idence of internal heating – gravitational P.E. released during planetary formation (collapse of gas clou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 see SSP2 and A1Y Stellar Astrophysics 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10903" descr=""/>
          <p:cNvPicPr/>
          <p:nvPr/>
        </p:nvPicPr>
        <p:blipFill>
          <a:blip r:embed="rId1"/>
          <a:stretch/>
        </p:blipFill>
        <p:spPr>
          <a:xfrm>
            <a:off x="2819520" y="380880"/>
            <a:ext cx="6019560" cy="60962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441000" y="650880"/>
            <a:ext cx="246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urorae on Jupi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5187960" y="365040"/>
            <a:ext cx="3651120" cy="3494160"/>
          </a:xfrm>
          <a:prstGeom prst="ellipse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248520" y="1432080"/>
            <a:ext cx="1527120" cy="14256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48320" y="152280"/>
            <a:ext cx="348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l structure of Sa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531120" y="1717560"/>
            <a:ext cx="936360" cy="87336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827600" y="1004760"/>
            <a:ext cx="719280" cy="4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188880" y="762120"/>
            <a:ext cx="16070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lecular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+  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e deple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9160" y="1996920"/>
            <a:ext cx="116820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tallic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+  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He enrich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6084360" y="2228760"/>
            <a:ext cx="838440" cy="1749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410080" y="397836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Rock (Mg, Si, F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and liquid ‘ice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6983280" y="364680"/>
            <a:ext cx="0" cy="174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30120" y="152388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.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744600" y="190440"/>
            <a:ext cx="34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490880" y="29520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35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820640" y="2270160"/>
            <a:ext cx="56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000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163280" y="1704960"/>
            <a:ext cx="6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000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41720" y="900000"/>
            <a:ext cx="2782080" cy="12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0000"/>
                </a:solidFill>
                <a:uFillTx/>
                <a:latin typeface="Times New Roman"/>
              </a:rPr>
              <a:t>Upper atmosphere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97% H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3% 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0.2%  CH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, ammonia, w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8600" y="2343240"/>
            <a:ext cx="3749760" cy="43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Lower atmospher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quid metallic hydrogen’ (but at mu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eater depth than in Jupiter – due to lower mass and densit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Cor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, ‘soup’ of rock and ‘ices’ (water, methane ammonia) of about 13 Earth ma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nal heating not entirely explained by planetary formation; extra heating from release of P.E. as heavier He sink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ect more pronounced for Saturn, as outer atmosphere cooler to begin wit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546880" y="5057640"/>
            <a:ext cx="3216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tallic hydrogen gives Saturn a strong magnetic field  (but weaker than Jupiter’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648320" y="22860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630120" y="12193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.4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11204" descr=""/>
          <p:cNvPicPr/>
          <p:nvPr/>
        </p:nvPicPr>
        <p:blipFill>
          <a:blip r:embed="rId1"/>
          <a:stretch/>
        </p:blipFill>
        <p:spPr>
          <a:xfrm>
            <a:off x="1395360" y="228600"/>
            <a:ext cx="63532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5187960" y="365040"/>
            <a:ext cx="3651120" cy="3494160"/>
          </a:xfrm>
          <a:prstGeom prst="ellipse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715000" y="909720"/>
            <a:ext cx="2543040" cy="23716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48320" y="152280"/>
            <a:ext cx="519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l structure of Uranus and Neptu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64160" y="1587600"/>
            <a:ext cx="1079640" cy="10792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827600" y="1004760"/>
            <a:ext cx="719280" cy="4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188880" y="762120"/>
            <a:ext cx="160704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lecular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+  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08440" y="1996920"/>
            <a:ext cx="113004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onic ‘ocean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N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H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6084360" y="2228760"/>
            <a:ext cx="838440" cy="1749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10080" y="397836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Rock (Mg, Si, F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983280" y="364680"/>
            <a:ext cx="0" cy="174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706440" y="1371600"/>
            <a:ext cx="34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744600" y="190440"/>
            <a:ext cx="34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567200" y="295200"/>
            <a:ext cx="43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0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125560" y="2422440"/>
            <a:ext cx="56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500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92240" y="1704960"/>
            <a:ext cx="56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000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25520" y="900000"/>
            <a:ext cx="2698560" cy="15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Upper atmospher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ranu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Nept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3%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5% 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%  C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" y="2720880"/>
            <a:ext cx="3749760" cy="37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Lower atmospher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essures not high enough to form liquid metallic hydrogen; weaker magnetic field due to ionic ‘ocean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Cor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, ‘soup’ of rock, also about 13 Earth ma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nal heating also important – particularly for Neptune (similar surface temperature to Uranus, despite being 1.5 times further from the Su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648320" y="22860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668280" y="685800"/>
            <a:ext cx="34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.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893600" y="1612800"/>
            <a:ext cx="99432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4%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5% 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%  C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952880" y="4952880"/>
            <a:ext cx="3597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res of Uranus and Neptune form much higher (70% to 90%) fraction of total mass, compared with Jupiter (5%) and Saturn (14%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11601" descr=""/>
          <p:cNvPicPr/>
          <p:nvPr/>
        </p:nvPicPr>
        <p:blipFill>
          <a:blip r:embed="rId1"/>
          <a:stretch/>
        </p:blipFill>
        <p:spPr>
          <a:xfrm>
            <a:off x="1295280" y="160200"/>
            <a:ext cx="6553440" cy="653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differential" descr=""/>
          <p:cNvPicPr/>
          <p:nvPr/>
        </p:nvPicPr>
        <p:blipFill>
          <a:blip r:embed="rId1"/>
          <a:stretch/>
        </p:blipFill>
        <p:spPr>
          <a:xfrm>
            <a:off x="304920" y="3886200"/>
            <a:ext cx="4495680" cy="27432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48680" y="152280"/>
            <a:ext cx="38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otation of the Jovian Pla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41360" y="900000"/>
            <a:ext cx="75596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Jupiter, Saturn, Uranus and Neptune rotate very rapidly, given their large radii, compared with the terrestrial plane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lso, the Jovian planets rotate  </a:t>
            </a: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differentially –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n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like a solid body  (e.g. a billiard ball) but as a flu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(e.g. grains of rice in a pot of water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We see this very clearly on Jupiter, wher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distinct cloud bands and belts rotate at differ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peed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544360" y="1790640"/>
            <a:ext cx="3059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n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Rotation Period 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rcur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8.6 d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nu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43 d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rt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4 ho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4 h 37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upiter *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 h 5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turn *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 h 14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ranu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7 h 14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ptu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 h 7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ut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.4 d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34120" y="21337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629400" y="1752480"/>
            <a:ext cx="0" cy="312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81480" y="1600200"/>
            <a:ext cx="3733920" cy="35053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954480" y="5181480"/>
            <a:ext cx="96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At Equ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143000" y="214200"/>
            <a:ext cx="685800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jup_zones" descr=""/>
          <p:cNvPicPr/>
          <p:nvPr/>
        </p:nvPicPr>
        <p:blipFill>
          <a:blip r:embed="rId1"/>
          <a:stretch/>
        </p:blipFill>
        <p:spPr>
          <a:xfrm>
            <a:off x="4038480" y="1066680"/>
            <a:ext cx="4876920" cy="38322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289080" y="317520"/>
            <a:ext cx="6188040" cy="34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On Jupiter we also see clearly that the cloud belts contain oval structures.  These are storms; the most famous being the Great Red Spo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his is a hurricane which has been raging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hundreds of years.  It measures ab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40000km by 14000k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Winds to the north and south of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Great Red Spot blow in oppos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directions; winds within the Sp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blow  counterclockwise, compl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one revolution in about 6 day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228600" y="4191120"/>
            <a:ext cx="411480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oblateness" descr=""/>
          <p:cNvPicPr/>
          <p:nvPr/>
        </p:nvPicPr>
        <p:blipFill>
          <a:blip r:embed="rId1"/>
          <a:stretch/>
        </p:blipFill>
        <p:spPr>
          <a:xfrm>
            <a:off x="1062000" y="2170080"/>
            <a:ext cx="7091280" cy="46879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107280" y="519120"/>
            <a:ext cx="898344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he Jovian planets are significantly flattened, or  </a:t>
            </a:r>
            <a:r>
              <a:rPr b="1" lang="en-GB" sz="1600" spc="-1" strike="noStrike">
                <a:solidFill>
                  <a:srgbClr val="3333cc"/>
                </a:solidFill>
                <a:latin typeface="Times New Roman"/>
              </a:rPr>
              <a:t>obla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he effect is most pronounced for Jupiter and Saturn, which have relatively smaller 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e.g. for Jupiter, polar diameter = 133708km  (6.5% less that equatorial diame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83680" y="345960"/>
            <a:ext cx="85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ctures 4-6: Key Features of the Jovian and Terrestrial Pla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7080" y="1181160"/>
            <a:ext cx="6063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Jovian planets are:  </a:t>
            </a:r>
            <a:r>
              <a:rPr b="1" lang="en-GB" sz="1800" spc="-1" strike="noStrike">
                <a:solidFill>
                  <a:srgbClr val="3333cc"/>
                </a:solidFill>
                <a:latin typeface="Times New Roman"/>
              </a:rPr>
              <a:t>Jupiter, Saturn, Uranus and Neptu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terrestrial planets are :  </a:t>
            </a:r>
            <a:r>
              <a:rPr b="1" lang="en-GB" sz="1800" spc="-1" strike="noStrike">
                <a:solidFill>
                  <a:srgbClr val="3333cc"/>
                </a:solidFill>
                <a:latin typeface="Times New Roman"/>
              </a:rPr>
              <a:t>Mercury, Venus, Earth and M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e can summarise the differences between them as follows: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35440" y="2874960"/>
            <a:ext cx="6020640" cy="36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Times New Roman"/>
              </a:rPr>
              <a:t>Terrestrial Planets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Times New Roman"/>
              </a:rPr>
              <a:t>Jovian Plan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Lower mass, smaller radii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Higher mass, larger radi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Near the Sun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Distant from the Su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Higher surface temperature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Lower surface temper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Higher average density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Lower average dens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H and He depleted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bundant H and 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olid surface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Gaseous / Liquid 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lower rotation period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apid rotation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No rings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any r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Few satellites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any satelli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43400" y="2971800"/>
            <a:ext cx="0" cy="3733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87120" y="3886200"/>
            <a:ext cx="634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                                                                   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7543800" y="3124080"/>
            <a:ext cx="380880" cy="91440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82400" y="2590920"/>
            <a:ext cx="964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See SSP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Lec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775200" y="6477120"/>
            <a:ext cx="146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* Rocky core deep insi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10901" descr=""/>
          <p:cNvPicPr/>
          <p:nvPr/>
        </p:nvPicPr>
        <p:blipFill>
          <a:blip r:embed="rId1"/>
          <a:srcRect l="9198" t="6895" r="24137" b="26440"/>
          <a:stretch/>
        </p:blipFill>
        <p:spPr>
          <a:xfrm>
            <a:off x="1371600" y="304920"/>
            <a:ext cx="6477120" cy="64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11203" descr=""/>
          <p:cNvPicPr/>
          <p:nvPr/>
        </p:nvPicPr>
        <p:blipFill>
          <a:blip r:embed="rId1"/>
          <a:stretch/>
        </p:blipFill>
        <p:spPr>
          <a:xfrm>
            <a:off x="0" y="1069920"/>
            <a:ext cx="9144000" cy="47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80880" y="304920"/>
            <a:ext cx="777240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Lecture 1: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Comic Sans MS"/>
              </a:rPr>
              <a:t>A Tour of the Solar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The Planets: some vital statistics: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68280" y="1790640"/>
            <a:ext cx="87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Diameter*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arth=1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ss        (Earth=1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Mean distance from the Su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175248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220968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266688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312408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358128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403848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449568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541008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495288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586728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632448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175248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447920" y="175248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1280" y="175248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5880" y="175248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763120" y="175248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28640" y="2271600"/>
            <a:ext cx="187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880 km     (0.38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26760" y="2743200"/>
            <a:ext cx="184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104 km     (0.949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26760" y="3200400"/>
            <a:ext cx="184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756 km     (1.0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3440" y="3657600"/>
            <a:ext cx="174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794 km     (0.53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28360" y="6400800"/>
            <a:ext cx="149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Equatorial di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53320" y="4114800"/>
            <a:ext cx="20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42984 km     (11.209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53680" y="4572000"/>
            <a:ext cx="194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0536 km     (9.449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54040" y="5029200"/>
            <a:ext cx="194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1118 km      (4.00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51160" y="5486400"/>
            <a:ext cx="194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9528 km      (3.88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451520" y="5911920"/>
            <a:ext cx="185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~2300 km      (0.1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3733920" y="3189240"/>
                <a:ext cx="137160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74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5259960" y="3186000"/>
            <a:ext cx="77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.0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3733920" y="2286000"/>
                <a:ext cx="137160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02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5259960" y="2286000"/>
            <a:ext cx="77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0.05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3726000" y="2714760"/>
                <a:ext cx="138888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69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5259960" y="2711520"/>
            <a:ext cx="77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0.81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733920" y="3629160"/>
                <a:ext cx="137160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18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5259960" y="3625920"/>
            <a:ext cx="77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0.10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3741840" y="4114800"/>
                <a:ext cx="135396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99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5259960" y="4083120"/>
            <a:ext cx="77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317.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3741840" y="4572000"/>
                <a:ext cx="137304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8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5259960" y="4572000"/>
            <a:ext cx="77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95.1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3733920" y="5029200"/>
                <a:ext cx="137304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82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5259960" y="5029200"/>
            <a:ext cx="77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4.5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3741840" y="5486400"/>
                <a:ext cx="135576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4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5259960" y="5486400"/>
            <a:ext cx="77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7.1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3962520" y="5915160"/>
                <a:ext cx="113328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183280" y="5943600"/>
            <a:ext cx="87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0.002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8640" y="227160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rcu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2320" y="274320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n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3760" y="320040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r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4120" y="365760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3760" y="4114800"/>
            <a:ext cx="73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upi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3400" y="4572000"/>
            <a:ext cx="71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2680" y="502920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ran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2680" y="5486400"/>
            <a:ext cx="86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ptu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2680" y="59119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u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6227640" y="2286000"/>
                <a:ext cx="126072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9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7644240" y="2286000"/>
            <a:ext cx="11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0.387 AU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6161040" y="2714760"/>
                <a:ext cx="135432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82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8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7644240" y="2711520"/>
            <a:ext cx="11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0.723 AU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6172200" y="3200400"/>
                <a:ext cx="135396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96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8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7644240" y="3168720"/>
            <a:ext cx="11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.000 AU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6180120" y="3629160"/>
                <a:ext cx="137304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79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8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7622280" y="3625920"/>
            <a:ext cx="11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.524 AU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6180120" y="4086360"/>
                <a:ext cx="135576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83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8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622280" y="4083120"/>
            <a:ext cx="11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5.203 AU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6172200" y="4572000"/>
                <a:ext cx="135576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2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9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7622280" y="4572000"/>
            <a:ext cx="11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9.572 AU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6188040" y="5029200"/>
                <a:ext cx="135576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1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9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6162840" y="5486400"/>
                <a:ext cx="137448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98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9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7542360" y="5029200"/>
            <a:ext cx="121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9.194 AU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45600" y="5486400"/>
            <a:ext cx="121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30.066 AU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6172200" y="5943600"/>
                <a:ext cx="137484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1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9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7545600" y="5911920"/>
            <a:ext cx="121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39.537 AU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257800" y="2286000"/>
            <a:ext cx="762120" cy="16765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90920" y="2286000"/>
            <a:ext cx="761760" cy="16765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96080" y="2286000"/>
            <a:ext cx="990720" cy="16765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90920" y="4114800"/>
            <a:ext cx="914400" cy="167652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257800" y="4114800"/>
            <a:ext cx="762120" cy="167652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0120" y="4114800"/>
            <a:ext cx="1066680" cy="167652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lanet_density" descr=""/>
          <p:cNvPicPr/>
          <p:nvPr/>
        </p:nvPicPr>
        <p:blipFill>
          <a:blip r:embed="rId1"/>
          <a:srcRect l="10256" t="8552" r="5132" b="8104"/>
          <a:stretch/>
        </p:blipFill>
        <p:spPr>
          <a:xfrm>
            <a:off x="1752480" y="3276720"/>
            <a:ext cx="5029200" cy="2971800"/>
          </a:xfrm>
          <a:prstGeom prst="rect">
            <a:avLst/>
          </a:prstGeom>
          <a:ln w="0">
            <a:noFill/>
          </a:ln>
        </p:spPr>
      </p:pic>
      <p:pic>
        <p:nvPicPr>
          <p:cNvPr id="134" name="planet_mass" descr=""/>
          <p:cNvPicPr/>
          <p:nvPr/>
        </p:nvPicPr>
        <p:blipFill>
          <a:blip r:embed="rId2"/>
          <a:srcRect l="3838" t="9386" r="5303" b="12846"/>
          <a:stretch/>
        </p:blipFill>
        <p:spPr>
          <a:xfrm>
            <a:off x="1219320" y="457200"/>
            <a:ext cx="6095880" cy="21337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653640" y="252576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ss (Earth = 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16200000">
            <a:off x="413640" y="468252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verage density  (Earth = 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713640" y="54100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713640" y="49068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13640" y="44496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713640" y="39924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707160" y="35352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lanet_distance" descr=""/>
          <p:cNvPicPr/>
          <p:nvPr/>
        </p:nvPicPr>
        <p:blipFill>
          <a:blip r:embed="rId1"/>
          <a:srcRect l="2662" t="9400" r="5201" b="7256"/>
          <a:stretch/>
        </p:blipFill>
        <p:spPr>
          <a:xfrm>
            <a:off x="1523880" y="228600"/>
            <a:ext cx="5486400" cy="29718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945160" y="3200400"/>
            <a:ext cx="281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verage distance from the Sun (AU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solarsys_radii" descr=""/>
          <p:cNvPicPr/>
          <p:nvPr/>
        </p:nvPicPr>
        <p:blipFill>
          <a:blip r:embed="rId2"/>
          <a:stretch/>
        </p:blipFill>
        <p:spPr>
          <a:xfrm>
            <a:off x="1454040" y="3452760"/>
            <a:ext cx="6089760" cy="34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83680" y="345960"/>
            <a:ext cx="85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ctures 4-6: Key Features of the Jovian and Terrestrial Pla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67080" y="1181160"/>
            <a:ext cx="6063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Jovian planets are:  </a:t>
            </a:r>
            <a:r>
              <a:rPr b="1" lang="en-GB" sz="1800" spc="-1" strike="noStrike">
                <a:solidFill>
                  <a:srgbClr val="3333cc"/>
                </a:solidFill>
                <a:latin typeface="Times New Roman"/>
              </a:rPr>
              <a:t>Jupiter, Saturn, Uranus and Neptu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terrestrial planets are :  </a:t>
            </a:r>
            <a:r>
              <a:rPr b="1" lang="en-GB" sz="1800" spc="-1" strike="noStrike">
                <a:solidFill>
                  <a:srgbClr val="3333cc"/>
                </a:solidFill>
                <a:latin typeface="Times New Roman"/>
              </a:rPr>
              <a:t>Mercury, Venus, Earth and M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e can summarise the differences between them as follows: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35440" y="2874960"/>
            <a:ext cx="6020640" cy="36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Times New Roman"/>
              </a:rPr>
              <a:t>Terrestrial Planets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Times New Roman"/>
              </a:rPr>
              <a:t>Jovian Plan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Lower mass, smaller radii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Higher mass, larger radi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Near the Sun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Distant from the Su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Higher surface temperature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Lower surface temper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Higher average density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Lower average dens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H and He depleted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bundant H and 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olid surface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Gaseous / Liquid 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lower rotation period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apid rotation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No rings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any r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Few satellites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any satelli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343400" y="2971800"/>
            <a:ext cx="0" cy="3733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87120" y="3886200"/>
            <a:ext cx="634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                                                                   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543800" y="3124080"/>
            <a:ext cx="380880" cy="91440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682400" y="2590920"/>
            <a:ext cx="964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See SSP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Lec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775200" y="6477120"/>
            <a:ext cx="146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* Rocky core deep insi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65040" y="345960"/>
            <a:ext cx="748368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bundance of H and 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 can use the  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ideal gas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gument of Lecture 3 to estimate the temperature required for hydrogen and helium to escape from a planetary atmosphere: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762120" y="2295360"/>
                <a:ext cx="7619760" cy="26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s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4</m:t>
                            </m:r>
                          </m:den>
                        </m:f>
                        <m:f>
                          <m:num>
                            <m:r>
                              <m:t xml:space="preserve">G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k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4</m:t>
                            </m:r>
                          </m:den>
                        </m:f>
                        <m:f>
                          <m:num>
                            <m:r>
                              <m:t xml:space="preserve">G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μ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k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 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3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p>
                            </m:sSup>
                            <m:r>
                              <m:t xml:space="preserve">×</m:t>
                            </m:r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76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24</m:t>
                                </m:r>
                              </m:sup>
                            </m:sSup>
                            <m:r>
                              <m:t xml:space="preserve">×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7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P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Earth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  <m:r>
                              <m:t xml:space="preserve"> </m:t>
                            </m:r>
                            <m:r>
                              <m:t xml:space="preserve">μ</m:t>
                            </m:r>
                            <m:r>
                              <m:t xml:space="preserve"> 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4</m:t>
                            </m:r>
                            <m:r>
                              <m:t xml:space="preserve">×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81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3</m:t>
                                </m:r>
                              </m:sup>
                            </m:sSup>
                            <m:r>
                              <m:t xml:space="preserve">×</m:t>
                            </m:r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78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6</m:t>
                                </m:r>
                              </m:sup>
                            </m:s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P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Earth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den>
                        </m:f>
                        <m:r>
                          <m:t xml:space="preserve"> </m:t>
                        </m:r>
                        <m:r>
                          <m:t xml:space="preserve">K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40</m:t>
                            </m:r>
                            <m:r>
                              <m:t xml:space="preserve"> 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P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Earth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  <m:r>
                              <m:t xml:space="preserve"> </m:t>
                            </m:r>
                            <m:r>
                              <m:t xml:space="preserve">μ</m:t>
                            </m:r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P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Earth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den>
                        </m:f>
                        <m:r>
                          <m:t xml:space="preserve"> </m:t>
                        </m:r>
                        <m:r>
                          <m:t xml:space="preserve">K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380880" y="2133720"/>
            <a:ext cx="8229600" cy="31240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65040" y="345960"/>
            <a:ext cx="8245440" cy="44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Abundance of H and 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For molecularHydrogen,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so the escape temperature for the  </a:t>
            </a:r>
            <a:r>
              <a:rPr b="1" lang="en-GB" sz="1600" spc="-1" strike="noStrike">
                <a:solidFill>
                  <a:srgbClr val="3333cc"/>
                </a:solidFill>
                <a:latin typeface="Times New Roman"/>
              </a:rPr>
              <a:t>Earth</a:t>
            </a:r>
            <a:r>
              <a:rPr b="0" lang="en-GB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is 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280 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his explains why the Earth has not retained its atmospheric molecular hydrog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(In fact, when the solar system was forming, the inner Solar System was too hot to retain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lighter elements, such as H and He; these are absent from all terrestrial planet atmospher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ee SSP2 lectures on formation of the solar system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For, e.g. molecular Nitrogen,                     so the escape temperature for the Earth is 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3920 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o the Earth’s atmosphere 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can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etain its molecular nitrog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2476440" y="1143000"/>
                <a:ext cx="80028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2787480" y="3916440"/>
                <a:ext cx="96048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65040" y="345960"/>
            <a:ext cx="771228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Abundance of H and 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lugging in the numbers for the Jovian planets, for molecular </a:t>
            </a:r>
            <a:r>
              <a:rPr b="1" lang="en-GB" sz="1600" spc="-1" strike="noStrike">
                <a:solidFill>
                  <a:srgbClr val="3333cc"/>
                </a:solidFill>
                <a:latin typeface="Times New Roman"/>
              </a:rPr>
              <a:t>Hydrogen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;  these escape temperatures are so high that the planets will 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not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have lost their atmospheric hydrog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523880" y="2413080"/>
          <a:ext cx="6096240" cy="406404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812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an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dius (Earth=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Earth=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1" lang="en-GB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es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pi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2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7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39 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tur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4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.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20 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an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.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5 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ptu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8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7 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8T11:50:53Z</dcterms:created>
  <dc:creator>Martin Hendry</dc:creator>
  <dc:description/>
  <dc:language>en-US</dc:language>
  <cp:lastModifiedBy>Martin Hendry</cp:lastModifiedBy>
  <dcterms:modified xsi:type="dcterms:W3CDTF">2003-10-17T19:22:47Z</dcterms:modified>
  <cp:revision>28</cp:revision>
  <dc:subject/>
  <dc:title>PowerPoint Presentation</dc:title>
</cp:coreProperties>
</file>